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2A8-1381-42BE-A0E4-E38C83DB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E0D-E239-4CBB-B0A2-C4A8744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6A1-6AC5-4E77-8E48-3C3E4DCA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BCE-827D-4807-8546-E18B052B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CCB-D404-4009-B4A8-0D501974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2980-D250-4E5D-B804-62E5487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786D-DF23-46C4-93D9-D0B79566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1E6C-4591-4D86-BC7F-19D838CA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801-9649-4994-9604-029FED0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A0B-6E96-474B-BFCA-E99CC37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56D4-2B53-4171-9C01-2250A1F9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AD1-73A3-4AA0-BBCE-6D157A3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074C-B739-4065-9142-57A1B76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460C-29ED-4703-9607-30A5DC0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C237-2108-47E7-A2DB-FDF99157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C618-2142-4141-A87A-E83898A3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A07D-BCBB-428C-B17E-001F358C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42F-30F1-4F55-A0CE-8F71E04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A9E-CEA6-41A0-934A-F0894F3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30E-6773-4096-8CC5-5C9EC6D9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CB4-B101-44E6-8B34-5E2DF76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7BA-6C7D-45D8-885D-6007E4D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8B-3655-4836-AFA4-BD34DF1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07B-B61D-4B65-B38F-95A72BF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B47-D088-4F57-9233-5728B17D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024-6F84-4C69-A1F9-923277230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50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5" descr="j0252713[1]"/>
          <p:cNvPicPr/>
          <p:nvPr/>
        </p:nvPicPr>
        <p:blipFill>
          <a:blip r:embed="rId1"/>
          <a:stretch/>
        </p:blipFill>
        <p:spPr>
          <a:xfrm>
            <a:off x="5076720" y="3124080"/>
            <a:ext cx="3313080" cy="311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bs1.jpg"/>
          <p:cNvPicPr/>
          <p:nvPr/>
        </p:nvPicPr>
        <p:blipFill>
          <a:blip r:embed="rId2"/>
          <a:stretch/>
        </p:blipFill>
        <p:spPr>
          <a:xfrm>
            <a:off x="785880" y="5143680"/>
            <a:ext cx="393048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Led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ledg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 all encompassing term used to track hotel transactions primarily before and during a guest’s or group’s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 ledger is also used to track the daily transactions of each revenue-generating side of the hotel triangle (room, catering, and outlet/ancillary s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will create an account within the guest ledger to track the inflow and outflow of reven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Led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ypes of accounts may vary in name from hotel to hotel but the functions of each are generally consistent, the most frequently used types 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use Account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s as a perpetual account to track recurring transactions that occur within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individual guest account will track debits and credits incurred prior to and during the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Led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ster Account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ly mirrors the individual guest account, the main difference is that a master account encompasses registration/accounting for an entire group, not individual attende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guest and group charges related to a specific group based on billing arrangements are routed to the master account as applic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ut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process where credits/debits incurred by one account are manually or automatically transferred to another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y Led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ledger is used to track revenues due to the hotel, these revenues are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ployee(s) of the Accounts Receivables area of the accounting department will manage the city ledger by creating a city ledger account in the accounting menu of the PMS for each guest ledger account that checks out with a balance due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y Led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 ledger must be cleared of noncurrent accounts to make way for new arriv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ncurrent account is measured by its departure date, which is directly tied to the creation of guest history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a balance outstanding on an “aged” account, a city ledger is created to track those reven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depend on revenue to cover their costs so within the city ledger an “aging statement” will track how long reach receivable has remained uncoll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Entr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cess of updating the accounting menu is achieved through a series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 accounting entries serve specific purposes to accurately document each 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ont office accounting formula summarises how these entries are tallied u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00000" y="55166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ginning Balance + Charges – Credits = Ending Bal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Accounting and the Front De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desk employees may handle cash throughout their day – guests may choose to pay with cash even though they put down a credit card number at check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allow their guests to cash personal cheque of a certain amount, and often exchange foreign currency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desk agents must be able to handle these transactions so each has their own “individual bank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Accounting and the Front Desk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bank is audited by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cashi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ensure that proper accounting procedures are adhered to and to avoid fr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ks are counted prior to each shift to ensure that the minimum reserve is there and at the end of each shift, a “cash out” process is undertaken to match all transactions with what is now in each individual 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desk employees “drop” their excess cash to the general cashier, who then replenishes individual banks if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ift Clos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esk agent will run an report from the PMS called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ee shift closing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employee is assigned an identification number within the PMS to track his/her trans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each agent on a shift has completed his or her own employee shift report, the manager may conduct an entire shift closing which will summarise all the transactions completed by each shift me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ing Ba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ing Ent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ing Docu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est Accounting and the Front De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counting equation is the most basic of all the accounting principles for the dissemination of information. It states th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et is an economic re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iability is an economic obl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wner’s equity is the level of ownership the owner has in the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328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ets = Liabilities + Owner’s Equ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counting equation must always be in balance, the two sides of the equal (=) sign must themselves be eq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quation can show at a glance the financial state of any business, however does not show great det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of the limited detail, the accounting equation is used more often to illustrate details of smaller business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wner-operated hotels would use the accounting equation most o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the accounting equation used in a small owner-operated hot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e, the Wilson family can claim ownership (or equity) in this operation of $136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08000" y="3645000"/>
            <a:ext cx="54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lson Family In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450,000 - $313,500 = $136,500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ets) – (liabilities) = owner’s equit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more financial detail, lenders, investors, shareholders and others look into a hotel’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ance sheet serves to summarize a hotel’s financial situation on a given date, and serves as a financial “snapshot” of the current state of assets, liabilities 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our example, the Wilson family’s balance sheet for their hotel could look like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lson Family In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 Sheet - Dec 31,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5280" y="2592360"/>
          <a:ext cx="8172360" cy="3502080"/>
        </p:xfrm>
        <a:graphic>
          <a:graphicData uri="http://schemas.openxmlformats.org/drawingml/2006/table">
            <a:tbl>
              <a:tblPr/>
              <a:tblGrid>
                <a:gridCol w="2043000"/>
                <a:gridCol w="2043360"/>
                <a:gridCol w="2043000"/>
                <a:gridCol w="20430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abilit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5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pay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ing suppl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aries pay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 pay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&amp;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0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 payabl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95,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5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Liabilit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13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il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6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wners Equ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fice Suppl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lson, capi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36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sse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0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quity and liabil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0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use traditional accounting concepts to organise and track guest information and other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ing of financial transactions within the front office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ledger”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 to identify what information is contained in a certain revenue tracking veh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hicles used to track the revenues and charges within the front office are the guest ledger and the city led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ing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these ledgers serves as an accounting vehicle for a hotel to track who it owes money to and who owes it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rimary accounting entries used to track these charges and credits ar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bi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bit has a positive affect on the total balance of a guest account and the credit has a negative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 employees deal with these credits and debits on a daily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4T03:28:23Z</dcterms:modified>
  <cp:revision>151</cp:revision>
  <dc:subject/>
  <dc:title>FRONT OFFICE OPERATIONS MANAGEMENT</dc:title>
</cp:coreProperties>
</file>